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BF2-A15C-447B-87AA-E197065A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6C11-0F9D-49B1-BCE5-9310088E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B419-E2EB-4580-A546-A7775D17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D21-701E-4B51-89EB-21290A64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234C-AE14-4456-9743-DD8C85C8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84A8-96B7-4504-B778-826A1C53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C6BD-9B5D-4BA1-B8B8-25587086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D61B-425F-443E-93A1-0E849EC1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5060-3685-41A4-A8EF-F1AC197F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065A-B2EE-4BFA-8298-5F6DE54E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2150-AFF0-49CD-87AF-0E4869EE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FA4-5AB6-414E-A79A-2045A430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1AB6-DCF9-4615-9A53-475E57D9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B67D-C4FC-404B-8C55-6AA0B21A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BC3D-4F41-401D-955B-0C2ECF2D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254B-5A57-4EBA-9D8A-50665690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69FC-1529-42A2-8D4B-C62868E7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D54D-94D2-4C7B-93B5-77AA7680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2F5-B45F-499A-B753-659CC8EE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2960-822F-44D2-89EA-1C855151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4B5-D6CE-4C13-A8EB-11ADB8F8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1DD5-E4A5-4C96-A38A-D2C43AF3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994-2A65-440B-817F-788DA52F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0E2-2D9A-4C58-A771-3E673C24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A4ED-8C2C-4990-B7A8-41AC796314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9E57-C1F6-4A84-BFA3-D67C40B0D5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9d9ff"/>
                </a:solidFill>
                <a:uFillTx/>
                <a:latin typeface="Comic Sans MS"/>
              </a:rPr>
              <a:t>Gwerth y misoedd</a:t>
            </a:r>
            <a:endParaRPr b="1" lang="en-US" sz="3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67816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s yw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wrth  = 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c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i        = 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eth yw gwerth Awst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40360" y="3357720"/>
            <a:ext cx="205740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18:04:00Z</dcterms:created>
  <dc:creator>Carwyn</dc:creator>
  <dc:description/>
  <dc:language>en-US</dc:language>
  <cp:lastModifiedBy>Carwyn</cp:lastModifiedBy>
  <dcterms:modified xsi:type="dcterms:W3CDTF">2008-12-31T18:13:37Z</dcterms:modified>
  <cp:revision>1</cp:revision>
  <dc:subject/>
  <dc:title>Gwerth y misoedd</dc:title>
</cp:coreProperties>
</file>